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wmf" ContentType="image/x-wmf"/>
  <Override PartName="/ppt/media/image6.png" ContentType="image/png"/>
  <Override PartName="/ppt/media/image1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9DD-8A08-4ED3-AB60-42BC7C63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DF3-85D0-41C8-A51B-971627EF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9432E-91C2-487C-9F4B-18ED3167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E1694-8DEB-43DC-96B7-B95965D6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5CE7F-F0F8-435C-A9A8-521713E9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50DB9-3FFA-4F55-B2FB-515955AB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8A474-2688-41FD-A246-A64AFBBE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B5DDC-0399-4182-850C-2B1790A4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75FA5-CC6F-40F8-BBE7-42062C10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013F9-861A-4B9B-B562-C1EC1320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BCF9D-CE14-48E2-9F6F-618C8CA5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937D0-0300-4738-9AB0-C03FF7BA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A97-3280-45C9-900F-40D6FC2D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A30A2-64EB-48B5-AC93-84E998B8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7F6F1-0A19-466F-A12F-D729FBCD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1E819-0048-4028-80FA-364409A5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4B5B7-BF1F-4617-A3B9-A70699D8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34460-E377-46BD-A63E-C6E542B0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CE52A-A892-4ADA-9194-7D68205E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FE45C-F702-46B9-9644-FFFF58ED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A2677-04D5-4479-B8A4-A36C0C77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3FE84-08DA-4131-BCE1-9AA35E15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B96B5-1880-4216-8366-198FCBBE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214-596B-4C06-8934-AA5C2927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F8D3A-9E21-473C-B23B-AA42AFF5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2C382-4293-4367-A53A-5D95B152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F7261-8E31-46E2-8A24-A46916D0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A9D2B-4708-45DF-8757-D4C96FB0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E2DA9-BE91-4D4D-9B84-7E133E9D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8D234-2E3F-436D-A129-9D01DB07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63FF3-8B33-4AA2-94F6-06A97ADB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1EED3-3059-4E6E-B860-B8006C96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A0185-EC11-4F7A-8DAC-4AFDD0A4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18AA9-DFF4-4364-84A7-7F26F724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9779-77AC-49B0-9101-793D5621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85E6B-A69E-4ACB-A432-DABF4C0B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883D4-D856-4CAD-B461-EF8DA250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13D14-3510-412A-B406-7BFF8811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9C35A-C4C1-4DA2-B40B-DFF5C675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5A739-EF64-4492-BD26-2153B192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4EA72-D62E-48BC-A128-39E50E8E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60EC9-75AE-4153-8831-04C393E6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EEF7C-7213-4AB5-9391-C0FC1BFA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FF111-4747-4454-8283-4EE1977E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5B392-74D4-49A7-BCBE-282FB6B7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62E1-FF99-4AF8-9B68-135973FC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6B5EC-0FC6-42DE-8691-039C33EF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D1B22-E83A-4140-9D6C-1F69E616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32A22-9BC8-406C-87BA-572803FB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E059A-D10B-4283-96FD-AEE23DB7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0BE70-4545-4894-9BC4-B9DD8565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C859-9194-4260-A6C5-BE382E9D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A83D-C3F0-4D57-BE7F-DF6EDC32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F197-C1AC-45F3-A832-A06FAB56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8A86-3BC3-42E8-AFD1-CBF75BDE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55E3-C57E-41AD-BECC-233ED5F2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F47-589A-4304-A93F-787DA3F9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9C03-6B8B-47BA-B7C8-A0655874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09B9-64DF-420C-A764-F9BE32D4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E43E-F46F-413F-9012-A8B70367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91B8-898C-4D6B-B45F-D6EFD14C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034F-4439-482D-BF67-6816F2E2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FD87-CC9B-41E2-87EE-FA336549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7BD0-1CDD-4E66-810E-DA422035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7F82-E810-4981-A3A1-1B25017E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B78F-30D0-4DE1-AA47-E843AB2A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470D-D0BE-44E1-9EA4-DB8A4853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70C-9FAF-424D-8817-4DB6F10D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5FF8-8A45-4A93-8ECA-C0595C38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ACCE-3F4C-4153-9730-07D77E8C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45FDC-4F4E-45D0-A29F-60E87799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C53E-2E1A-4A62-9CB6-44C5399C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83AAF-5B6E-43F2-9FB7-4AFBB77C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570D-C59A-4664-9F8E-3060B849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5F75E-7C2F-47DF-AA6E-7340C028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BE4F8-7CF5-4203-8605-D93B1AE2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8B6F5-9C66-4784-A8A2-C076263D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E4D6B-99CD-480E-A9B3-66D701C3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293-C36B-4B07-A382-BF0A2D51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325CB-EFC4-4165-80AA-AB3FA7B4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8E6F1-38EB-4480-AC9E-375CB22D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16A98-BA57-496E-83D4-421C0546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E3531-0190-4B0B-845B-2CBA1E26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37969-B327-45BA-B849-8245E07F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1962B-A5D4-4908-8D89-A2B2BA66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EDE21-AB5D-4DE7-997D-1A6B55E4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80CE-463A-4B52-806E-40831B05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2899-F956-4150-BF93-8665C1FB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9CDA2-0D4D-4693-BA5E-455C00D4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FFC-973E-45CF-98A9-BAC23FEA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C5847-5B6E-44AD-B212-6F63E3BE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D442-F076-43CE-A39A-1FF9AD4A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66592-2EA7-4211-A242-7D104B6A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2818-A755-478D-8C8F-B114FB5E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FEE86-CF9A-47F1-A6E4-8E89EDA3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E1149-1DC8-4510-BBD8-802CB09F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B401C-9F2F-493F-B185-E6DC400F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88BDC-691E-48CE-A974-89F061B0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10065-1F53-4E9C-8833-1757B344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62A66-E1F4-4698-A45F-A50483D0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6A4-3240-471E-8415-D6B9DA0D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EFEAB-3A3A-4F9E-98E1-6C86E0FA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04943-6243-432A-99A7-6BED9844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1A954-9693-4917-9171-BE680EF4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1AB33-9DEE-40E3-817A-3C929879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FC707-D6F6-451F-82B2-455C6E08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67702-D376-4C16-844B-2F4426F5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FB885-69A4-491C-B960-51697B60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9879B-74B0-41F3-AF20-2C4CDC53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AC0DA-0C98-4F7F-A494-298F355A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790A7-624B-4998-993D-EBDC76C4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5A1-F049-4AA0-87C4-A92CE8B0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DBB9A-4ACC-44D9-99AF-B0AFEEB7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54C5-A5D9-475F-BF29-9346A81D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03A8C-D5C3-4395-A0FE-E469F33A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D5A4E-8D38-40A5-9022-2AD19F34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DDFD4-D12D-47B8-A6D4-7DE3C5F2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DDA94-5E89-4C33-84F2-D64B1E31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3E867-DA74-4715-92BA-3BCAEEA6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CC494-1C83-4E4D-832F-CCDA1584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D65DD-72B5-468C-971F-868FD8F8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96BD7-C9CB-482A-9420-8157BB97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D38-F432-4DC2-88E5-3FC2BD26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5C7AF-6220-4B2D-91C4-9D8D1A18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A26A5-D4A9-4D0E-BDF7-862BD9F9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F7099-20B1-42A3-8F72-E18FB4AC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8DE88-A7C9-4AB5-A01A-CCC7CB9F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588D2-C7F0-4582-9F8E-8788509D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77E97-C20B-420C-90F9-3FAAF9B3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0A250-104D-4B62-8CD2-0430982D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5BC6A-2D61-42EB-B9AF-9DCBD090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8E5F1-64F7-4CF4-80ED-5A90066F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255C2-E49B-4052-A515-BB9E1367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835-FC31-404A-802E-A7C4E0D7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97DBC-B6D2-4C79-8CC7-ABF4B2B9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D0C71-6E60-4696-924E-93309589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56DB2-FD96-446E-8BAA-6950E84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FA91B-2CC6-4DDD-8D2D-B4FA483D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45072-1ACB-4A04-A85B-77BAD701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A7F9A-B40B-45C9-B14B-2A134E9E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88B83-9D20-42C4-BC7C-D80012D9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77C05-F604-4E6A-88DE-400188F1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E0CFC-3A6C-4A99-A67E-59CCD706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36AB3-354E-4F61-9DF3-14B76955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5412-D0DB-4396-A344-E5ECFB9784A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6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DAD8-3196-43BD-B633-C2AF01E7C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1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8F0F-2A63-4295-AC8F-8C0C16FD4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7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1E3F-6F54-44D2-A17E-604309A31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6BBF-0962-4241-823F-4B221EAEDBC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1E61-5C73-43E1-A7DD-87E2C5D88F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E4D9-EE7C-46B5-91E1-4524B47051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1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1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2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4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6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BEC0-EDAF-43B2-860F-13E5155C0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1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2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3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5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6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BDDE-8A06-40C9-934E-1B3F6BFB3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2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2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3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4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4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6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39BF-596D-49BA-A11B-F489B3A3C4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1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2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2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3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4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4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6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CB23-AD96-4282-BDCF-FFA7652D28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1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09B8-3BB0-49FC-9EE6-3F25D7F3C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ff"/>
              </a:solidFill>
              <a:latin typeface="Bradley Hand ITC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/>
          <p:nvPr/>
        </p:nvSpPr>
        <p:spPr>
          <a:xfrm>
            <a:off x="2362320" y="190512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El Proyecto de Espanol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828800" y="4419720"/>
            <a:ext cx="5715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NISHA PAT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PENNY KOURNIOTI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4fe"/>
                </a:solidFill>
                <a:latin typeface="Arial Black"/>
              </a:rPr>
              <a:t>Willard Mitt Romn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5" name=""/>
          <p:cNvSpPr/>
          <p:nvPr/>
        </p:nvSpPr>
        <p:spPr>
          <a:xfrm>
            <a:off x="2666880" y="22096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200400" y="19810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4fe"/>
                </a:solidFill>
                <a:latin typeface="Arial"/>
              </a:rPr>
              <a:t>Willard Mitt Romney es de Michigan, y Americano. El quiere ser presidente. El tiene sesntaicio anos. Mitt Romney es alto. De ninguna manera perezoso. El es un Republicano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37" name="" descr="File:Mitt Romney by Gage Skidmore 6.jpg"/>
          <p:cNvPicPr/>
          <p:nvPr/>
        </p:nvPicPr>
        <p:blipFill>
          <a:blip r:embed="rId1"/>
          <a:stretch/>
        </p:blipFill>
        <p:spPr>
          <a:xfrm>
            <a:off x="304920" y="1905120"/>
            <a:ext cx="2624040" cy="346212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Republicanlogo.svg"/>
          <p:cNvPicPr/>
          <p:nvPr/>
        </p:nvPicPr>
        <p:blipFill>
          <a:blip r:embed="rId2"/>
          <a:stretch/>
        </p:blipFill>
        <p:spPr>
          <a:xfrm>
            <a:off x="6781680" y="4800600"/>
            <a:ext cx="2095560" cy="181944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/>
          <p:cNvPicPr/>
          <p:nvPr/>
        </p:nvPicPr>
        <p:blipFill>
          <a:blip r:embed="rId3"/>
          <a:stretch/>
        </p:blipFill>
        <p:spPr>
          <a:xfrm>
            <a:off x="3352680" y="48769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dia Bastiani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2908440" cy="315288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3581280" y="1676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idia Bastianich es cocinera. Ella es de Italia. Lidia es muy gorda, morena, y baja. No es perezosa, flanca, y linda. Es Italian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2"/>
          <a:stretch/>
        </p:blipFill>
        <p:spPr>
          <a:xfrm>
            <a:off x="6248520" y="4648320"/>
            <a:ext cx="2590560" cy="190008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4952880" y="1676520"/>
            <a:ext cx="382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Vincent Van Gog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236680" cy="273384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2819520" y="2286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Vincent es de Holandea, y Holandes. Es flanco, moreno, y muy antipatico. No es gordo, rubio, y perezoso. Vincent es pintoro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2"/>
          <a:stretch/>
        </p:blipFill>
        <p:spPr>
          <a:xfrm>
            <a:off x="4952880" y="4876920"/>
            <a:ext cx="236232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00ffff"/>
                </a:solidFill>
                <a:latin typeface="Arial Black"/>
              </a:rPr>
              <a:t>Leanardo Da Vin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381400" cy="323388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3505320" y="20574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Leanardo da vinci es de Italia. Es muy feo, ambicioco, y rubio. No es guapo, perezoso, y moreno. Leanardo es Italiano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2"/>
          <a:stretch/>
        </p:blipFill>
        <p:spPr>
          <a:xfrm>
            <a:off x="6934320" y="4038480"/>
            <a:ext cx="19159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Queen of Englan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154" name="" descr=""/>
          <p:cNvPicPr/>
          <p:nvPr/>
        </p:nvPicPr>
        <p:blipFill>
          <a:blip r:embed="rId1"/>
          <a:stretch/>
        </p:blipFill>
        <p:spPr>
          <a:xfrm>
            <a:off x="228600" y="2421000"/>
            <a:ext cx="3048120" cy="21193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4038480" y="266688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izabeth es de England. Ella es fea, ambisioca, y muchacha. Ella no es bonita, perezosa, y muchacho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2"/>
          <a:stretch/>
        </p:blipFill>
        <p:spPr>
          <a:xfrm>
            <a:off x="5181480" y="4876920"/>
            <a:ext cx="3667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7:34:12Z</dcterms:created>
  <dc:creator>patelnis</dc:creator>
  <dc:description/>
  <dc:language>en-US</dc:language>
  <cp:lastModifiedBy>patelnis</cp:lastModifiedBy>
  <dcterms:modified xsi:type="dcterms:W3CDTF">2012-10-10T19:18:05Z</dcterms:modified>
  <cp:revision>6</cp:revision>
  <dc:subject/>
  <dc:title>Es Spanish Projecto</dc:title>
</cp:coreProperties>
</file>